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2640" y="666360"/>
            <a:ext cx="455940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82F87-2E84-410F-9FE2-A77BA7585BE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9B83-A97B-4FF1-B57C-DF849C1233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5112-FB1F-4464-9E94-0DCAD1A2B7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10EC3-ED10-4BDD-90F7-56DA2C1565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1158C-360D-4855-B6AC-B0B44A57A6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E1C0-29F3-4269-940C-E856BA2EFB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B0F8E-2E6B-4A12-B9D9-D723081CED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FF09-8EF6-46BC-A841-FF4A26BE350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F59A2-61EB-42D3-A3BB-E9B75A09CC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D869-5CFB-412B-A475-84FB55D7DA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63F2-BFBC-44F1-ACA6-ACBE29FB67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A3499-B970-4CE1-8A8F-67FBEF578F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CF64F-FDF8-438D-845C-3CEEDFA06B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768AF-6875-4526-9064-85292133B5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FF4D-2CD9-4FDA-BBE9-B1A75ACBFB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5EF37-FB1A-48A1-B734-57A9C4FB18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35E46-B7A6-4F06-9D42-2ADB03CFE6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D355D-E4F0-4823-815F-1D9C741649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3B43-D898-4E80-9EA8-02B8CF1804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8740-AB66-4BCD-81CE-F1C11875B1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8F4EF-3BDF-47F2-9870-EF2779479F5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AD407-9216-460C-9B62-6377690F52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70DCF-5B97-4FA0-9120-63D50BE9B56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37F3D-5E8B-45A9-AA35-627CB74002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53DD1-DBD4-4514-AB19-F09C702836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3DFC-099A-4081-9221-3367CD967EE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737F-235C-4F6E-8658-A143BFB9664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71C64-A4F0-4354-83E3-597343FB6E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89CCF-13A8-40C1-A668-89D504B0F1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2A03-3F2B-49E0-8068-44725D525F4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181E5-9F07-4762-AB9F-354CA57993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C3F5-53C2-4DFA-A8FC-ABDB273A15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6402-FDBC-46F4-9D9E-0C54DD9012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6245-6E9B-4A18-91ED-0DCD5B1BC9A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B708E-C56F-4783-AA7D-9ED2DB9D92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0DC57-4788-4ADF-85B9-12C842AA9F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B007-90C9-476D-9605-968D5C30B38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2E50-E978-4D0D-BA7F-4957404102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F3BB-140B-48F5-9DBC-6267D48C23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87206-A4CD-4D3C-A862-A9A155166A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30C60-B42F-403C-981D-437F24D887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AED78-88AF-4E83-971C-6EDF41C8144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ED381-2F69-43F4-AF9C-0E61528142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DC805-3CAF-4656-AA6C-52BE88106A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D7DCC-6438-4C76-AF25-080CB64E11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8A4DA-AE66-48CA-B2B2-7D01636791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2906-9EB3-4CC2-B133-1458CBD35C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3DEC-055C-413B-ABEC-83E5B918E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47D6-F39B-42EA-BA95-FD80892C5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1925-72EA-4081-A530-FDE0667C1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2BBE-2799-45D0-B43B-B9AFA9F7A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878F-88AB-42A4-B92C-32FDCECF67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5AEC-4F70-461D-8FB4-7F51B513BE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9508-668C-4EF0-B51A-50B9B52C59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97A2-5480-4EA1-94F5-B7A5872DE8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EDDE-03A9-4448-805D-1FB73A69F9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904D-5BEA-4560-88BF-09827CD2A0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F753-C149-47EF-AA7F-BACA687338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1C72-0419-4542-B27A-83B8C37A2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8779-8F68-4447-BDD2-34A40385A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894E-6D9A-47E1-B6A8-E6F318FEA1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0D97-7F75-42B4-8C51-DFB032E358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086C-9411-434F-9C22-57B5F8575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C8F5-0BA9-486C-81A2-6B15F7D7B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D3C5-B985-4E7C-8613-4B2030A90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0BC-BF01-42CA-B1A2-22D4BFAC2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3144-EC41-458B-B6E2-E6992437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F908-F35B-4ED2-8283-14B3DB5C5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1C07-0DA4-4954-B258-546278223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1B7B-62D8-4D59-AEF3-AF0A5FA0F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81A9-6C4E-4676-819C-623498E10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83E22-26DC-4A42-9504-8B4E152503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93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AutoShape 10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52" name="AutoShape 3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AutoShape 4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AutoShape 5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93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AutoShape 6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AutoShape 7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AutoShape 8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320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FC67A-D226-4F6B-BD7C-3970D3245402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" Target="slide23.xml"/><Relationship Id="rId4" Type="http://schemas.openxmlformats.org/officeDocument/2006/relationships/slide" Target="slide26.xml"/><Relationship Id="rId5" Type="http://schemas.openxmlformats.org/officeDocument/2006/relationships/slide" Target="slide23.xml"/><Relationship Id="rId6" Type="http://schemas.openxmlformats.org/officeDocument/2006/relationships/slide" Target="slide27.xml"/><Relationship Id="rId7" Type="http://schemas.openxmlformats.org/officeDocument/2006/relationships/slide" Target="slide23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hyperlink" Target="http://images.yandex.ru/yandsearch?text=&#1089;&#1074;&#1086;&#1103;%20&#1080;&#1075;&#1088;&#1072;&amp;noreask=1&amp;pos=1&amp;rpt=simage&amp;lr=9&amp;img_url=http://cs4463.userapi.com/g16000362/a_4b2c76ec.jpg" TargetMode="External"/><Relationship Id="rId12" Type="http://schemas.openxmlformats.org/officeDocument/2006/relationships/slide" Target="slide31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4.xml"/><Relationship Id="rId16" Type="http://schemas.openxmlformats.org/officeDocument/2006/relationships/slide" Target="slide35.xml"/><Relationship Id="rId17" Type="http://schemas.openxmlformats.org/officeDocument/2006/relationships/slide" Target="slide36.xml"/><Relationship Id="rId18" Type="http://schemas.openxmlformats.org/officeDocument/2006/relationships/slide" Target="slide37.xml"/><Relationship Id="rId19" Type="http://schemas.openxmlformats.org/officeDocument/2006/relationships/slide" Target="slide38.xml"/><Relationship Id="rId20" Type="http://schemas.openxmlformats.org/officeDocument/2006/relationships/slide" Target="slide39.xml"/><Relationship Id="rId21" Type="http://schemas.openxmlformats.org/officeDocument/2006/relationships/slide" Target="slide40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00040" y="428760"/>
            <a:ext cx="842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428920" y="4214880"/>
            <a:ext cx="60721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0" y="4916520"/>
            <a:ext cx="4500720" cy="228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  иг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кубановед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ОУ СОШ № 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 Курганин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игорян Карина Шаге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23760" y="291960"/>
            <a:ext cx="9309240" cy="105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и подвиг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42960" y="150012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то из выдающихся советских летчиков участвовал в воздушных битвах в небе Кубани весной 1943 года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Покрышкин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и подвиг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42960" y="1785960"/>
            <a:ext cx="72867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Четверо наших земляков кубанцев за годы ВОВ стали дважды героями Советского Союза. Назовите 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ahoma"/>
              </a:rPr>
              <a:t>Е.Я. Савицкий, Т.Т.Хрюкин , В.А. Алексеенко, В.И. Кокина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и подвиг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785880" y="1714680"/>
            <a:ext cx="757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командовал 17-м казачьим кавалерийским корпусо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.Я. Кирич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3816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География войн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42960" y="1500120"/>
            <a:ext cx="814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Город-герой в Краснодарском крае. Назовите 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овороссий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География войн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000080" y="1643040"/>
            <a:ext cx="671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акие города края не были захвачены фашистами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Геленджик,Туапсе, Со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География войн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571680" y="1357200"/>
            <a:ext cx="80010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Именно в этом городе фашисты впервые применили душегубки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г. Краснода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География войн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57160" y="1143000"/>
            <a:ext cx="76438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Именно он командовал высадкой десанта  в районе Мысхако  в ночь на 4 февраля 1943 г. Назовите его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Ц.Л. Кун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География войн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785880" y="14288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: Где в годы ВОВ был политруком Л.И.Брежне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на Малой Земл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У войны не женское лицо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928800" y="1785960"/>
            <a:ext cx="72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ого в крае называют солдатской матерью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Епистинию Степано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У войны не женское лиц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57160" y="2000160"/>
            <a:ext cx="7429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ак  называли фашисты летчиц женского Таманского гвардейского авиационного пол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«Ночные ведьмы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1052640"/>
          <a:ext cx="7431120" cy="5078160"/>
        </p:xfrm>
        <a:graphic>
          <a:graphicData uri="http://schemas.openxmlformats.org/drawingml/2006/table">
            <a:tbl>
              <a:tblPr/>
              <a:tblGrid>
                <a:gridCol w="3279600"/>
                <a:gridCol w="871560"/>
                <a:gridCol w="871560"/>
                <a:gridCol w="782640"/>
                <a:gridCol w="784080"/>
                <a:gridCol w="841680"/>
              </a:tblGrid>
              <a:tr h="888480">
                <a:tc>
                  <a:txBody>
                    <a:bodyPr lIns="90000" rIns="90000" tIns="61128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61128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4600"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Д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</a:tr>
              <a:tr h="1118520"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Герои и подвиг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</a:tr>
              <a:tr h="1118520"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География  вой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1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</a:tr>
              <a:tr h="1118520"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У войны не женское лиц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6112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sp>
        <p:nvSpPr>
          <p:cNvPr id="122" name="AutoShape 29">
            <a:hlinkClick r:id="rId21" action="ppaction://hlinksldjump"/>
          </p:cNvPr>
          <p:cNvSpPr/>
          <p:nvPr/>
        </p:nvSpPr>
        <p:spPr>
          <a:xfrm>
            <a:off x="642960" y="6286680"/>
            <a:ext cx="399960" cy="382320"/>
          </a:xfrm>
          <a:custGeom>
            <a:avLst/>
            <a:gdLst>
              <a:gd name="textAreaLeft" fmla="*/ 24480 w 399960"/>
              <a:gd name="textAreaRight" fmla="*/ 375480 w 399960"/>
              <a:gd name="textAreaTop" fmla="*/ 24480 h 382320"/>
              <a:gd name="textAreaBottom" fmla="*/ 357840 h 382320"/>
            </a:gdLst>
            <a:ahLst/>
            <a:rect l="textAreaLeft" t="textAreaTop" r="textAreaRight" b="textAreaBottom"/>
            <a:pathLst>
              <a:path w="22596" h="21600">
                <a:moveTo>
                  <a:pt x="0" y="0"/>
                </a:moveTo>
                <a:lnTo>
                  <a:pt x="22596" y="0"/>
                </a:lnTo>
                <a:lnTo>
                  <a:pt x="22596" y="21600"/>
                </a:lnTo>
                <a:lnTo>
                  <a:pt x="0" y="21600"/>
                </a:lnTo>
                <a:close/>
              </a:path>
              <a:path fill="lightenLess" w="22596" h="21600">
                <a:moveTo>
                  <a:pt x="0" y="0"/>
                </a:moveTo>
                <a:lnTo>
                  <a:pt x="22596" y="0"/>
                </a:lnTo>
                <a:lnTo>
                  <a:pt x="21196" y="1400"/>
                </a:lnTo>
                <a:lnTo>
                  <a:pt x="1400" y="1400"/>
                </a:lnTo>
                <a:close/>
              </a:path>
              <a:path fill="darken" w="22596" h="21600">
                <a:moveTo>
                  <a:pt x="22596" y="0"/>
                </a:moveTo>
                <a:lnTo>
                  <a:pt x="22596" y="21600"/>
                </a:lnTo>
                <a:lnTo>
                  <a:pt x="21196" y="20200"/>
                </a:lnTo>
                <a:lnTo>
                  <a:pt x="21196" y="1400"/>
                </a:lnTo>
                <a:close/>
              </a:path>
              <a:path fill="darkenLess" w="22596" h="21600">
                <a:moveTo>
                  <a:pt x="2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6" y="20200"/>
                </a:lnTo>
                <a:close/>
              </a:path>
              <a:path fill="lighten" w="2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6" h="21600">
                <a:moveTo>
                  <a:pt x="4291" y="3794"/>
                </a:moveTo>
                <a:lnTo>
                  <a:pt x="18304" y="10800"/>
                </a:lnTo>
                <a:lnTo>
                  <a:pt x="4291" y="17806"/>
                </a:lnTo>
                <a:close/>
              </a:path>
            </a:pathLst>
          </a:custGeom>
          <a:solidFill>
            <a:srgbClr val="ff0000"/>
          </a:solidFill>
          <a:ln cap="sq"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ая соединительная линия 5"/>
          <p:cNvSpPr/>
          <p:nvPr/>
        </p:nvSpPr>
        <p:spPr>
          <a:xfrm>
            <a:off x="3924360" y="1052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>
            <a:off x="684360" y="1989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ая соединительная линия 16"/>
          <p:cNvSpPr/>
          <p:nvPr/>
        </p:nvSpPr>
        <p:spPr>
          <a:xfrm>
            <a:off x="684360" y="3068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ая соединительная линия 20"/>
          <p:cNvSpPr/>
          <p:nvPr/>
        </p:nvSpPr>
        <p:spPr>
          <a:xfrm>
            <a:off x="684360" y="4076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ая соединительная линия 22"/>
          <p:cNvSpPr/>
          <p:nvPr/>
        </p:nvSpPr>
        <p:spPr>
          <a:xfrm>
            <a:off x="684360" y="522936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24"/>
          <p:cNvSpPr/>
          <p:nvPr/>
        </p:nvSpPr>
        <p:spPr>
          <a:xfrm>
            <a:off x="7308720" y="1989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ая соединительная линия 28"/>
          <p:cNvSpPr/>
          <p:nvPr/>
        </p:nvSpPr>
        <p:spPr>
          <a:xfrm>
            <a:off x="5580000" y="1989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ая соединительная линия 29"/>
          <p:cNvSpPr/>
          <p:nvPr/>
        </p:nvSpPr>
        <p:spPr>
          <a:xfrm>
            <a:off x="6443640" y="1989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ая соединительная линия 30"/>
          <p:cNvSpPr/>
          <p:nvPr/>
        </p:nvSpPr>
        <p:spPr>
          <a:xfrm>
            <a:off x="4716360" y="1989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У войны не женское лиц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57160" y="1714680"/>
            <a:ext cx="735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Герой Советского Союза, сняла фильм о боевых подругах: « В небе  «ночные» ведьмы». Кто 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Е.А.Жигулен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У войны не женское лиц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1428840" y="2643120"/>
            <a:ext cx="61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то командовал летчицами Таманского авиаполка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Е.Д.Берша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У войны не женское лиц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642960" y="20001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ем прославилась в годы войны жительница станицы Курганной Анастасия Ковалев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аботала медсестрой в больнице станицы в период оккупации и вместе с подругами и врачом вылечили 112 бойц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Управляющая кнопка: домой 4"/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14240" y="1397160"/>
          <a:ext cx="7431120" cy="4194000"/>
        </p:xfrm>
        <a:graphic>
          <a:graphicData uri="http://schemas.openxmlformats.org/drawingml/2006/table">
            <a:tbl>
              <a:tblPr/>
              <a:tblGrid>
                <a:gridCol w="3279960"/>
                <a:gridCol w="871560"/>
                <a:gridCol w="871560"/>
                <a:gridCol w="782640"/>
                <a:gridCol w="784080"/>
                <a:gridCol w="841320"/>
              </a:tblGrid>
              <a:tr h="822960">
                <a:tc>
                  <a:txBody>
                    <a:bodyPr lIns="90000" rIns="90000" tIns="61128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61128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Война в цифр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</a:tr>
              <a:tr h="941760"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Герои Великой Отечественной вой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</a:tr>
              <a:tr h="744480"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События и лю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</a:tr>
              <a:tr h="941760"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селенные пункты Краснодарского кр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lIns="68760" rIns="68760" tIns="546840" bIns="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400" spc="-1" strike="noStrike">
                          <a:solidFill>
                            <a:srgbClr val="ccccff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85e0"/>
                    </a:solidFill>
                  </a:tcPr>
                </a:tc>
              </a:tr>
            </a:tbl>
          </a:graphicData>
        </a:graphic>
      </p:graphicFrame>
      <p:sp>
        <p:nvSpPr>
          <p:cNvPr id="214" name="AutoShape 29"/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ff0000"/>
          </a:solidFill>
          <a:ln cap="sq"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ая соединительная линия 5"/>
          <p:cNvSpPr/>
          <p:nvPr/>
        </p:nvSpPr>
        <p:spPr>
          <a:xfrm>
            <a:off x="3924360" y="141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ая соединительная линия 14"/>
          <p:cNvSpPr/>
          <p:nvPr/>
        </p:nvSpPr>
        <p:spPr>
          <a:xfrm>
            <a:off x="684360" y="220500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ая соединительная линия 16"/>
          <p:cNvSpPr/>
          <p:nvPr/>
        </p:nvSpPr>
        <p:spPr>
          <a:xfrm>
            <a:off x="684360" y="3213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ая соединительная линия 22"/>
          <p:cNvSpPr/>
          <p:nvPr/>
        </p:nvSpPr>
        <p:spPr>
          <a:xfrm>
            <a:off x="755640" y="4076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ая соединительная линия 23"/>
          <p:cNvSpPr/>
          <p:nvPr/>
        </p:nvSpPr>
        <p:spPr>
          <a:xfrm>
            <a:off x="684360" y="494172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ая соединительная линия 26"/>
          <p:cNvSpPr/>
          <p:nvPr/>
        </p:nvSpPr>
        <p:spPr>
          <a:xfrm>
            <a:off x="4788000" y="22050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ая соединительная линия 27"/>
          <p:cNvSpPr/>
          <p:nvPr/>
        </p:nvSpPr>
        <p:spPr>
          <a:xfrm>
            <a:off x="5651640" y="22050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>
            <a:off x="6443640" y="22050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Прямая соединительная линия 29"/>
          <p:cNvSpPr/>
          <p:nvPr/>
        </p:nvSpPr>
        <p:spPr>
          <a:xfrm>
            <a:off x="7308720" y="22050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Война в цифр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500040" y="1714680"/>
            <a:ext cx="807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Сколько самолетов сбил в небе над Кубанью летчик А.И. Покрышкин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йна в цифрах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714240" y="1857240"/>
            <a:ext cx="7858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колько дней длилась оборона Малой Земл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22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йна в цифрах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714240" y="18572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Сколько танков было уничтожено экипажем танка под командованием лейтенанта Д.Ф. Лавриненк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5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йна в цифрах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71424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человек были растреляны в поселке Михизеева поля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20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йна в цифр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785880" y="171468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Сколько партизанских отрядов действовало на территории Краснодарского края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86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Великой Отечественной войн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57160" y="1500120"/>
            <a:ext cx="757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Летчик, Герой Советского Союза, житель станицы Курганной. Назовите 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Серов В.Г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Дат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928800" y="1785960"/>
            <a:ext cx="778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В этот день началась Великая Отечественная во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22 июня 1941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Управляющая кнопка: домой 4">
            <a:hlinkClick r:id="rId1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Великой Отечественной войны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785880" y="171468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84360" y="3068640"/>
            <a:ext cx="81374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ды Великой Отечественной войны пушек конструкции этого конструктора на фронтах было больше, чем пушек других тип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249720" y="5486400"/>
            <a:ext cx="32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В.Г.Граб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Управляющая кнопка: домой 6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Великой Отечественной войны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006560" y="197964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. Офицер, танковый ас, участник Великой Отечественной вой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Д.Ф.Лавринен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1524240" cy="215748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домой 5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Великой Отечественной войн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571680" y="1857240"/>
            <a:ext cx="8286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Летчик- испытатель, уроженец станицы Бреньковской, в мае 1942 года совершил первый в мире полет на реактивном самолете. Назовите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Г.Я.Бахчиванж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Великой Отечественной войны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714240" y="178596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ды ВОВ был политруком на Малой Земле, в последствии стал генеральным секретарем КПСС. Кто он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Брежнев Л.И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События и люд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731880" y="246852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. Станицы: Кущевская, Шкуринская, Конеловска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506680" y="3084480"/>
            <a:ext cx="62704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азовите станицы где немцы встретили серьезное сопроти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Управляющая кнопка: домой 5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События и люди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28760" y="214308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акой населенный пункт  на территории края получил название “Кубанская Хатынь”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Михизеева поля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События и люд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500040" y="171468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ся партизанский отряд  в станице Курганной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«курганинец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“кубанец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“мститель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»Кубанец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События и люд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28760" y="1714680"/>
            <a:ext cx="82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Где проходила «Голубая линия»»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От Азовского моря  до Новороссий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События и люд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928800" y="178596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Что представляла собой Малая Земл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участок площадью около 30 квадратных километров  в районе Станички (мыс Мысхако) южнее Новороссийска, образовавшегося в результате десантной операции отряда морской пехоты численностью 271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Населенные пункты Краснодарского кра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571680" y="18572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Какой кубанский город называли город-госпитал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Со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Дат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654120" y="2203560"/>
            <a:ext cx="8072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Именно в этот день фашисты захватили Красно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9 августа 194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Населенные пункты Краснодарского кр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85840" y="25002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кой город Кубани носит почетное звание Город - Герой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Новороссийс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Управляющая кнопка: домой 4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549360" y="182520"/>
            <a:ext cx="795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Населенные пункты Краснодарского кр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475080" y="2286000"/>
            <a:ext cx="1860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08360" y="2976480"/>
            <a:ext cx="545616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роженкой какой         станицы была Е.А.Жигуленк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200400" y="5303880"/>
            <a:ext cx="5303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станицы Тихорец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0" y="2463840"/>
            <a:ext cx="2836800" cy="4394160"/>
          </a:xfrm>
          <a:prstGeom prst="rect">
            <a:avLst/>
          </a:prstGeom>
          <a:ln w="0">
            <a:noFill/>
          </a:ln>
        </p:spPr>
      </p:pic>
      <p:sp>
        <p:nvSpPr>
          <p:cNvPr id="301" name="Управляющая кнопка: домой 6"/>
          <p:cNvSpPr/>
          <p:nvPr/>
        </p:nvSpPr>
        <p:spPr>
          <a:xfrm>
            <a:off x="766764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182520" y="914400"/>
            <a:ext cx="8594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Населенные пункты Краснодарского кр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3533760" y="2225520"/>
            <a:ext cx="1860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9680" y="3191040"/>
            <a:ext cx="8906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Где находится этот памят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6377040" y="2730600"/>
            <a:ext cx="2766960" cy="3760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611280" y="4869000"/>
            <a:ext cx="4876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остовской район, Михизеева поля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Управляющая кнопка: домой 6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2857680" y="274680"/>
            <a:ext cx="582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Населенные пункты Краснодарского кр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714240" y="178596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прос:Чем прославился Муся Пинкензо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семью Пинкензонов арестовали как евреев. В числе других приговоренных к смерти, их вывели на берег Кубани, куда согнали жителей со всей станицы. Солдаты расставляли приговорённых к расстрелу вдоль железной ограды перед глубоким рвом. Перед расстрелом Муся заиграл на скрипке «Интернационал» и тотчас был уб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1189080" y="241200"/>
            <a:ext cx="1603440" cy="2502000"/>
          </a:xfrm>
          <a:prstGeom prst="rect">
            <a:avLst/>
          </a:prstGeom>
          <a:ln w="0">
            <a:noFill/>
          </a:ln>
        </p:spPr>
      </p:pic>
      <p:sp>
        <p:nvSpPr>
          <p:cNvPr id="312" name="Управляющая кнопка: домой 5"/>
          <p:cNvSpPr/>
          <p:nvPr/>
        </p:nvSpPr>
        <p:spPr>
          <a:xfrm>
            <a:off x="32400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 раун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1428840" y="785880"/>
            <a:ext cx="578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 раун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ahoma"/>
              </a:rPr>
              <a:t>«Казаки,казак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85840" y="1857240"/>
            <a:ext cx="8572320" cy="77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 потомственных казаков в Первую мировую войну стал Полным Георгиевским кавалером, а во Вторую Мировую получил звание Героя Советского союз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НТИН  ИОСИФОВИЧ  НЕДОРУБ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50004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 u="sng">
                <a:solidFill>
                  <a:srgbClr val="92d050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143160" y="2786040"/>
            <a:ext cx="29908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Использованные интернет-ресур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95280" y="2852640"/>
            <a:ext cx="807228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Картинка на титульном слайд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Tahoma"/>
              </a:rPr>
              <a:t>http://images.yandex.ru/yandsearch?text=%D1%81%D0%B2%D0%BE%D1%8F%20%D0%B8%D0%B3%D1%80%D0%B0&amp;noreask=1&amp;pos=1&amp;rpt=simage&amp;lr=9&amp;img_url=http%3A%2F%2Fcs4463.userapi.com%2Fg16000362%2Fa_4b2c76ec.jpg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кубок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yandex.ru/yandsearch?p=5&amp;text=%D0%BF%D0%BE%D0%B4%D0%B2%D0%B5%D0%B4%D0%B5%D0%BD%D0%B8%D0%B5%20%D0%B8%D1%82%D0%BE%D0%B3%D0%BE%D0%B2%20%D0%B8%D0%B3%D1%80%D1%8B%20%D0%BA%D0%B0%D1%80%D1%82%D0%B8%D0%BD%D0%BA%D0%B0&amp;noreask=1&amp;pos=158&amp;rpt=simage&amp;lr=9&amp;img_url</a:t>
            </a:r>
            <a:r>
              <a:rPr b="0" lang="en-US" sz="1600" spc="-1" strike="noStrike">
                <a:solidFill>
                  <a:srgbClr val="ccccff"/>
                </a:solidFill>
                <a:latin typeface="Tahoma"/>
              </a:rPr>
              <a:t>=http%3A%2F%2Flestroismousquetons.free.fr%2Fimages%2Ftrophy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bfbfb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Дат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071720" y="2143080"/>
            <a:ext cx="721512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когда станица Курганная была освобождена от фашист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27 января 1943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Дат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71680" y="2000160"/>
            <a:ext cx="82152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Когда г. Краснодар был освобожден от фашист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12 февраля 1943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Даты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714240" y="1785960"/>
            <a:ext cx="750096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Когда десант советских войск высадился под Новороссийском (Малая Земля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4 февраля 1943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и подвиг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28800" y="1285920"/>
            <a:ext cx="75722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Братья,Герои Советского Союза, погибли при осуществлении деверсии на железной дорог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Евгений и Гений Игнато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Управляющая кнопка: домой 4">
            <a:hlinkClick r:id="rId2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Герои подвиг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84360" y="1052640"/>
            <a:ext cx="72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из кубанцев отличился в защите Брестской крепости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майор П.М.Гаври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207324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Управляющая кнопка: домой 5">
            <a:hlinkClick r:id="rId3" action="ppaction://hlinksldjump"/>
          </p:cNvPr>
          <p:cNvSpPr/>
          <p:nvPr/>
        </p:nvSpPr>
        <p:spPr>
          <a:xfrm>
            <a:off x="39528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d1</cp:lastModifiedBy>
  <dcterms:modified xsi:type="dcterms:W3CDTF">2015-03-30T18:50:43Z</dcterms:modified>
  <cp:revision>142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  <property fmtid="{D5CDD505-2E9C-101B-9397-08002B2CF9AE}" pid="3" name="Проверено">
    <vt:lpwstr>урок-игра</vt:lpwstr>
  </property>
</Properties>
</file>